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54013-5ACF-4529-8D5C-45274AC6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6398-D1A6-4A38-B360-4EAB6E53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4BCBA-07D2-4D76-AAD6-56455884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1CD6E-FDCB-4279-A921-9A584CD9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F3AA-8EFC-4AB4-8736-A663982C6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000A-0547-4101-B95E-171E9890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6EE6-E764-4BCB-BA51-E3F8024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6F35-46DB-4F25-9E02-9AFB08A3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250-810D-48F4-8FFE-6A39CF6C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08E7-2699-43D8-931B-00E5E393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3990-2DC0-4EFA-99E1-4A78810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E1CF6-4B65-4029-B63F-DE40A1EA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C4C9-142B-4610-B2A6-1B51E35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F110-D03C-4BBD-B8ED-F534FFC2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2622-93B3-4110-8344-2AD3912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084C-A7E1-475B-9A2F-18F4553B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4124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1080" y="198072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76176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4124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1080" y="4010760"/>
            <a:ext cx="2551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1E4F-D879-4161-BA97-E9256E4F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B33D-672C-4254-9F0A-8D66F59D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B5D1-E2EA-49B5-A8E5-22674F40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7576B-5DE2-4391-9A79-7E938FDE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838080"/>
            <a:ext cx="80010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BA101-6831-48F8-9B36-01D8BB9F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A571-6761-4245-919E-DB8CED0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22560" y="401076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B2C13-CB88-40C0-A24F-4FD8D228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2560" y="1980720"/>
            <a:ext cx="3867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0760"/>
            <a:ext cx="792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AEE3C-362C-4041-804C-99636323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24A-5964-4EC2-8CA2-D7CF085DF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304920" y="304920"/>
            <a:ext cx="8229240" cy="456840"/>
            <a:chOff x="304920" y="304920"/>
            <a:chExt cx="8229240" cy="456840"/>
          </a:xfrm>
        </p:grpSpPr>
        <p:sp>
          <p:nvSpPr>
            <p:cNvPr id="3" name=""/>
            <p:cNvSpPr/>
            <p:nvPr/>
          </p:nvSpPr>
          <p:spPr>
            <a:xfrm>
              <a:off x="304920" y="304920"/>
              <a:ext cx="257040" cy="446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76440" y="417600"/>
              <a:ext cx="7857720" cy="229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3560" y="417600"/>
              <a:ext cx="123840" cy="1180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97400" y="304920"/>
              <a:ext cx="12564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97400" y="417600"/>
              <a:ext cx="125640" cy="1180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1880" y="534600"/>
              <a:ext cx="122760" cy="1155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23360" y="419040"/>
              <a:ext cx="126720" cy="115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3560" y="532080"/>
              <a:ext cx="123840" cy="1155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1880" y="647640"/>
              <a:ext cx="122760" cy="114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80880" y="380880"/>
            <a:ext cx="8381880" cy="6172200"/>
            <a:chOff x="380880" y="380880"/>
            <a:chExt cx="8381880" cy="6172200"/>
          </a:xfrm>
        </p:grpSpPr>
        <p:sp>
          <p:nvSpPr>
            <p:cNvPr id="52" name=""/>
            <p:cNvSpPr/>
            <p:nvPr/>
          </p:nvSpPr>
          <p:spPr>
            <a:xfrm>
              <a:off x="380880" y="380880"/>
              <a:ext cx="3213000" cy="617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953720" y="1902240"/>
              <a:ext cx="6809040" cy="2280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80880" y="1340640"/>
              <a:ext cx="2627640" cy="2841120"/>
              <a:chOff x="380880" y="1340640"/>
              <a:chExt cx="2627640" cy="2841120"/>
            </a:xfrm>
          </p:grpSpPr>
          <p:sp>
            <p:nvSpPr>
              <p:cNvPr id="55" name=""/>
              <p:cNvSpPr/>
              <p:nvPr/>
            </p:nvSpPr>
            <p:spPr>
              <a:xfrm>
                <a:off x="906120" y="3605040"/>
                <a:ext cx="528120" cy="576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953720" y="1901880"/>
                <a:ext cx="526320" cy="578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1760" y="1340640"/>
                <a:ext cx="536760" cy="5713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27040" y="3605040"/>
                <a:ext cx="534960" cy="576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471760" y="1901880"/>
                <a:ext cx="536760" cy="578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427040" y="2472120"/>
                <a:ext cx="534960" cy="569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2472120"/>
                <a:ext cx="533880" cy="569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953720" y="2472120"/>
                <a:ext cx="526320" cy="569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06120" y="3033360"/>
                <a:ext cx="528120" cy="579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27040" y="3033360"/>
                <a:ext cx="534960" cy="5796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FD75-A1F5-4C9A-AAF1-32A8B7961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l-Time Logic – a brief 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601120" y="6172200"/>
            <a:ext cx="5428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1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33920" y="198072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, redundant control for nuclear reactor (two control ro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bsystem starts moving the rod within 5 time units from manager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ng completed in 20 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eedback on the manager; it must wait at least 30 time units before granting another requ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44720" cy="487512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6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2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ystem 1 (subsystem 2 is equivale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6553080" cy="116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7467480" cy="99540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7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"/>
          <p:cNvSpPr/>
          <p:nvPr/>
        </p:nvSpPr>
        <p:spPr>
          <a:xfrm>
            <a:off x="762120" y="2362320"/>
            <a:ext cx="14475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ton1 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76520" y="26668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2362320"/>
            <a:ext cx="19047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request to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410080" y="26668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34320" y="3429000"/>
            <a:ext cx="19047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 by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790960" y="365760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 (3/3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7086600" cy="2354400"/>
          </a:xfrm>
          <a:prstGeom prst="rect">
            <a:avLst/>
          </a:prstGeom>
          <a:ln w="0">
            <a:noFill/>
          </a:ln>
        </p:spPr>
      </p:pic>
      <p:grpSp>
        <p:nvGrpSpPr>
          <p:cNvPr id="283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84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5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safety propert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use the specification to check if interesting properties ho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 the two rods must not be moving simultaneous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erty can be proved true with a 25-nodes inference tre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5562720" cy="101448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theoretical resul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an be proven that general RTL is undecidable (reduction to a two counter machin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able subset exists: conjunctions of formulas                                    , where       is a quantifier (           ) and      is of form: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ractice, a decision algorithm is provided for specification expressed in Modech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9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248520" y="2590920"/>
                <a:ext cx="21034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∨</m:t>
                    </m:r>
                    <m:r>
                      <m:t xml:space="preserve">…</m:t>
                    </m:r>
                    <m:r>
                      <m:t xml:space="preserve">∨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905120" y="2895480"/>
                <a:ext cx="2491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886200" y="28954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010120" y="2865600"/>
                <a:ext cx="2905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1295280" y="3276720"/>
                <a:ext cx="2916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581280" y="19807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since ‘88 as a practical specification tool built on top of RT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s hierarchical statecharts with timing constrai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the classic railroad-crossing probl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constraint: (r,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: transition delay (minimum time before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 transition deadline (max time to transi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trivially converted in a RTL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ty requir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056040" cy="5029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3886200" y="4876920"/>
                <a:ext cx="43959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4572000" y="5257800"/>
                <a:ext cx="393696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CROSSING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rPr>
                        <m:lit/>
                        <m:nor/>
                      </m:rPr>
                      <m:t xml:space="preserve">DOW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0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0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del checking on Modechar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-state model checking is possible on Modechart-generated RTL spec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id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finit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utation grap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Modechart specif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 properties expressed in decidable RTL by model checking the computation graph (several subclasses of RTL support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: building the comp. graph as a simple state reachability graph is not enough – a state may be unreachable due to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 annotate each node in the comp. graph with 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et of timing constra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nodes in the graph are isomorphic iff they share the same state, event set and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stance equival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dition ho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ways possible to obtain a finite comp.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xample: comp. graph for railroad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486400" cy="4779720"/>
          </a:xfrm>
          <a:prstGeom prst="rect">
            <a:avLst/>
          </a:prstGeom>
          <a:ln w="0">
            <a:noFill/>
          </a:ln>
        </p:spPr>
      </p:pic>
      <p:grpSp>
        <p:nvGrpSpPr>
          <p:cNvPr id="317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18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checking Modecharts is computationally expensive in both time &amp;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 a subgraph of timing constraints to derive information for each node in the comp. gra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distance equivalence is not satisfied we can get a state explo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ymbolic modelchec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when considering a reduced decidable subset RTL is fairly powerful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erform efficient model checking we need to add further restriction. Ex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perties are not amenable to be expressed in RTL. Ex: sums of execution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600200" y="4648320"/>
            <a:ext cx="4038480" cy="533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523880" y="5791320"/>
                <a:ext cx="4989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∀</m:t>
                        </m:r>
                        <m:r>
                          <m:t xml:space="preserve">i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↓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@</m:t>
                        </m:r>
                        <m:r>
                          <m:t xml:space="preserve">(</m:t>
                        </m:r>
                        <m:r>
                          <m:t xml:space="preserve">↑</m:t>
                        </m:r>
                        <m:r>
                          <m:rPr>
                            <m:lit/>
                            <m:nor/>
                          </m:rPr>
                          <m:t xml:space="preserve">exec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25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6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ome remark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clusion i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ing Oriented Programm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s need to be associated with absolute tim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a reasonable RTL subset decidable for finite tr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an efficient monitor (forward reasoning) seems har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is logic really what we want for (run-time) verification of real-time programs? Open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33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 order logic especially designed for the specification of real-time systems; originally proposed in [Jahanian &amp; Mok, 86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s represented explici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 atoms are not state predicate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 state transitio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     has (possibly infinite)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iming information is expressed by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ccurrence re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: the ith occurrence of     happens at time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 simple real-time period task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T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690640" y="398628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162840" y="3917880"/>
                <a:ext cx="9572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69120" y="421488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497400" y="4511520"/>
                <a:ext cx="18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200560" y="4518000"/>
                <a:ext cx="1447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0880" y="5638680"/>
                <a:ext cx="54374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FINISH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71520" y="5181480"/>
                <a:ext cx="568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TART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t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" name=""/>
          <p:cNvGrpSpPr/>
          <p:nvPr/>
        </p:nvGrpSpPr>
        <p:grpSpPr>
          <a:xfrm>
            <a:off x="6086160" y="4952880"/>
            <a:ext cx="2819880" cy="533520"/>
            <a:chOff x="6086160" y="4952880"/>
            <a:chExt cx="2819880" cy="533520"/>
          </a:xfrm>
        </p:grpSpPr>
        <p:sp>
          <p:nvSpPr>
            <p:cNvPr id="118" name=""/>
            <p:cNvSpPr/>
            <p:nvPr/>
          </p:nvSpPr>
          <p:spPr>
            <a:xfrm>
              <a:off x="6772320" y="4952880"/>
              <a:ext cx="213372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IOD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86160" y="5257800"/>
              <a:ext cx="6858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857920" y="5715000"/>
            <a:ext cx="3048120" cy="533520"/>
            <a:chOff x="5857920" y="5715000"/>
            <a:chExt cx="3048120" cy="533520"/>
          </a:xfrm>
        </p:grpSpPr>
        <p:sp>
          <p:nvSpPr>
            <p:cNvPr id="121" name=""/>
            <p:cNvSpPr/>
            <p:nvPr/>
          </p:nvSpPr>
          <p:spPr>
            <a:xfrm>
              <a:off x="6772320" y="5715000"/>
              <a:ext cx="2133720" cy="533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AD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857920" y="5867280"/>
              <a:ext cx="914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19320" y="3048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67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9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92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3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5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8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3976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0188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4000" y="3276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8001000" y="3200400"/>
                <a:ext cx="1443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53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numeric consta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 of events symbo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time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    of occurrences variab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as syntactic sug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              as s.s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55920" y="228600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17880" y="2606760"/>
                <a:ext cx="2505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255920" y="2590920"/>
                <a:ext cx="156852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,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d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98800" y="2919240"/>
                <a:ext cx="25056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65320" y="353700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7400" y="384192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00200" y="44956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600200" y="480060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576440" y="5065560"/>
                <a:ext cx="4395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≤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225520" y="5052960"/>
                <a:ext cx="66996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590840" y="5338800"/>
                <a:ext cx="7315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389320" y="5342040"/>
                <a:ext cx="77472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70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yntax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rence ter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ic cons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rrenc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ursive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     an event constant,      an occurrence term,     a time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tim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of                        to occurrence ter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first-order logic applic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555920" y="4724280"/>
                <a:ext cx="4572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,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5029200"/>
                <a:ext cx="854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336840" y="234144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352680" y="3537000"/>
                <a:ext cx="25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62440" y="2590920"/>
                <a:ext cx="27144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565440" y="3833640"/>
                <a:ext cx="25092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841920" y="2948040"/>
                <a:ext cx="230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9880" y="415908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968560" y="510552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025960" y="5052960"/>
                <a:ext cx="14616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128000" y="5064120"/>
                <a:ext cx="1458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533412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95480" y="5638680"/>
                <a:ext cx="11318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9800" y="5907240"/>
                <a:ext cx="1484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,</m:t>
                    </m:r>
                    <m:r>
                      <m:t xml:space="preserve">∧</m:t>
                    </m:r>
                    <m:r>
                      <m:t xml:space="preserve">,</m:t>
                    </m:r>
                    <m:r>
                      <m:t xml:space="preserve">∨</m:t>
                    </m:r>
                    <m:r>
                      <m:t xml:space="preserve">,</m:t>
                    </m:r>
                    <m:r>
                      <m:t xml:space="preserve">→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,</m:t>
                    </m:r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18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mantic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eric constants       with      ,                     are assigned standard natural numbers semantics (Presburger arithmeti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nstant event symbol in      is assigned a distinct event in an event set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the occurrence relation, i.e. a 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xioms (monotonicit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erence rules are derived from first-order log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 formed formulas have no free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589200" y="1996920"/>
                <a:ext cx="2509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2057400"/>
                <a:ext cx="2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924440" y="2028960"/>
                <a:ext cx="11318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,</m:t>
                    </m:r>
                    <m:r>
                      <m:t xml:space="preserve">&lt;</m:t>
                    </m:r>
                    <m:r>
                      <m:t xml:space="preserve">,</m:t>
                    </m:r>
                    <m:r>
                      <m:t xml:space="preserve">≤</m:t>
                    </m:r>
                    <m:r>
                      <m:t xml:space="preserve">,</m:t>
                    </m:r>
                    <m:r>
                      <m:t xml:space="preserve">&gt;</m:t>
                    </m:r>
                    <m:r>
                      <m:t xml:space="preserve">,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48080" y="2635200"/>
                <a:ext cx="2494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600200" y="289548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19320" y="3200400"/>
                <a:ext cx="25056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716880" y="3200400"/>
                <a:ext cx="11476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3962520"/>
            <a:ext cx="6477120" cy="89676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02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1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ase specification, we can add additional semantic to       dividing events in three possible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vents are caused by user interaction or th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: button press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events are associated wit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tivities in the system that last a non null length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n action        ,           is the start event and          the stop ev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Events represent changes to the state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state predicate        ,              and                 represent the transition ev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ing on initial conditions, either                            or                           must ho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transition events are still numbered based on occurrences! If                  , then in                             ,       is the first time the state predicate becomes fal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018200" y="2001960"/>
                <a:ext cx="25092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57720" y="2940120"/>
                <a:ext cx="140004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BUTTON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743200" y="380988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182760" y="3780000"/>
                <a:ext cx="45900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↑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796000" y="3794040"/>
                <a:ext cx="458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↓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581280" y="441972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943440" y="4422600"/>
                <a:ext cx="8175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227560" y="4419720"/>
                <a:ext cx="7952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000760" y="498492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792840" y="499284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613640" y="5511960"/>
                <a:ext cx="15303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397240" y="5772240"/>
                <a:ext cx="15080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1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1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145040" y="5811840"/>
                <a:ext cx="14760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Event Types (2/2)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axioms to cover event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/stop axiom (for each action      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tion axioms (for each state predicate  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579920" y="2333520"/>
                <a:ext cx="271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257800" cy="478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486400" y="3200400"/>
                <a:ext cx="20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523880" y="3657600"/>
            <a:ext cx="5334120" cy="22845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2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  is a variable and    is a numeric constant, then           is s.s. for    add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define an additional operator              associated with partial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ccurrenc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such that                                   (i.e., it provides the time of the ith occurrency of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rewrite the periodic task specification 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327320" y="2077920"/>
                <a:ext cx="20772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286080" y="2057400"/>
                <a:ext cx="18720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324480" y="2057400"/>
                <a:ext cx="436680" cy="2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005440" y="2622600"/>
                <a:ext cx="747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436920" y="2879640"/>
                <a:ext cx="129384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→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715000" y="2895480"/>
                <a:ext cx="2222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↔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386320" y="3224160"/>
                <a:ext cx="187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0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41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4246560"/>
                <a:ext cx="300060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↓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92240" y="3789360"/>
                <a:ext cx="3208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@</m:t>
                    </m:r>
                    <m:r>
                      <m:t xml:space="preserve">(</m:t>
                    </m:r>
                    <m:r>
                      <m:t xml:space="preserve">↑</m:t>
                    </m:r>
                    <m:r>
                      <m:t xml:space="preserve">τ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More syntactic sugar: state predicat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ime terms          , the state predicate           (      is true in time interval         ) is s.s.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boundary conditions are possible (definitions are trivi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x  :              occurs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x  :              occurs before or at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 :              occurs before 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]  :              occurs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)  :              occurs after or at 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&gt; :              occurs after 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971800" y="2057400"/>
                <a:ext cx="4366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586480" y="1996920"/>
                <a:ext cx="6649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16640" y="2028960"/>
                <a:ext cx="208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81080" y="2286000"/>
                <a:ext cx="51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219320" y="2666880"/>
            <a:ext cx="5105160" cy="381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905120" y="3581280"/>
                <a:ext cx="8096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05120" y="388620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905120" y="4191120"/>
                <a:ext cx="809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14480" y="4495680"/>
                <a:ext cx="7891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914480" y="4800600"/>
                <a:ext cx="789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5105520"/>
                <a:ext cx="7887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: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8" name=""/>
          <p:cNvGrpSpPr/>
          <p:nvPr/>
        </p:nvGrpSpPr>
        <p:grpSpPr>
          <a:xfrm>
            <a:off x="0" y="6629400"/>
            <a:ext cx="9144000" cy="228600"/>
            <a:chOff x="0" y="6629400"/>
            <a:chExt cx="9144000" cy="228600"/>
          </a:xfrm>
        </p:grpSpPr>
        <p:sp>
          <p:nvSpPr>
            <p:cNvPr id="259" name=""/>
            <p:cNvSpPr/>
            <p:nvPr/>
          </p:nvSpPr>
          <p:spPr>
            <a:xfrm>
              <a:off x="0" y="6629400"/>
              <a:ext cx="9144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TL – a brief introduction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8962920" y="6629400"/>
              <a:ext cx="181080" cy="22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7:46:28Z</dcterms:created>
  <dc:creator>Enzhou Wang</dc:creator>
  <dc:description/>
  <dc:language>en-US</dc:language>
  <cp:lastModifiedBy>Rodolfo Pellizzoni</cp:lastModifiedBy>
  <dcterms:modified xsi:type="dcterms:W3CDTF">2006-07-24T20:02:14Z</dcterms:modified>
  <cp:revision>130</cp:revision>
  <dc:subject/>
  <dc:title>An Extensible Choices System Interface </dc:title>
</cp:coreProperties>
</file>